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2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2.pct" ContentType="image/x-pict"/>
  <Override PartName="/ppt/media/image14.png" ContentType="image/png"/>
  <Override PartName="/ppt/media/image1.pct" ContentType="image/x-pict"/>
  <Override PartName="/ppt/media/image4.png" ContentType="image/png"/>
  <Override PartName="/ppt/media/image9.jpeg" ContentType="image/jpe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979-E06B-4B6E-A685-B89357C9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371-A2C0-4868-B8FB-8C6815BE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CFA-15E2-4645-A0D9-57FDFA7E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414-61FC-4EB9-A477-D171197D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8EA-E767-466F-8D61-FE854486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43A-8707-445E-B732-92A8D733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F59-7B3D-4717-9621-B5BE31CC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FD2-305D-4B4B-9FD9-879B2A35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A9A-F474-4A73-BD8A-8DD85613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880-1E35-4EEE-87E8-76945D82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C1A7-0AB1-44E7-BC09-C66ABFEE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E034-E3FE-410B-9163-4F0BE282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1ED9-D0C1-4471-B563-8D91E6B40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54040" y="457200"/>
            <a:ext cx="1023984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ternet Analysis Tools Registr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IATR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Public Resource for Image Analysis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Instance of an Ontology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033960"/>
            <a:ext cx="776160" cy="824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59920" y="5956200"/>
            <a:ext cx="772920" cy="90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359280" y="4309920"/>
            <a:ext cx="9934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enter for Morphometric Analysis, MGH/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thinoula A. Martinos Center for Biomedical Imaging, HST/MGH/M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3520" y="31384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vid N. Kenn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39120" y="5961240"/>
            <a:ext cx="745920" cy="89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700680" y="5964120"/>
            <a:ext cx="765360" cy="893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508720" y="6014880"/>
            <a:ext cx="1119240" cy="843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rcRect l="0" t="0" r="88677" b="0"/>
          <a:stretch/>
        </p:blipFill>
        <p:spPr>
          <a:xfrm>
            <a:off x="849240" y="6012000"/>
            <a:ext cx="703440" cy="84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rcRect l="0" t="0" r="73335" b="0"/>
          <a:stretch/>
        </p:blipFill>
        <p:spPr>
          <a:xfrm>
            <a:off x="2997360" y="5954760"/>
            <a:ext cx="2438280" cy="903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625760" y="5904000"/>
            <a:ext cx="1298520" cy="95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229680"/>
            <a:ext cx="84582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wards a Software Tool Ont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2080" y="1299960"/>
            <a:ext cx="8791560" cy="53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Entity (ImageFeature) is_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Entity </a:t>
            </a: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created_fr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Entity created_by Analysis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ation (or Finding) created by Analysis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SoftwareToo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stance_of Analysis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ologicalRead instance_of Analysis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200" y="115092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84582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wards a Software Tool Ont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1106640"/>
            <a:ext cx="8458200" cy="57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Slicer instance_of Software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WH instance_of tool_cre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alization instance_of tool_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CBC_NA-MIC instance_of funding_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 instance_of operating_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Slicer has_function Visu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creator BW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funding NCBC_NA-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operating_system Linu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200" y="89532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9200" y="20988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22" b="0"/>
          <a:stretch/>
        </p:blipFill>
        <p:spPr>
          <a:xfrm>
            <a:off x="1941480" y="0"/>
            <a:ext cx="7202520" cy="678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9200" y="20988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22400" y="0"/>
            <a:ext cx="7237440" cy="681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9200" y="20988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7267680" cy="684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9200" y="20988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895400" y="0"/>
            <a:ext cx="7248600" cy="68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0003"/>
          <a:stretch/>
        </p:blipFill>
        <p:spPr>
          <a:xfrm>
            <a:off x="1930320" y="0"/>
            <a:ext cx="7213680" cy="135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w What??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ty V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ion w/ Other Eff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/Usability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200" y="14796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080" y="1015560"/>
            <a:ext cx="786744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raf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ntolog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ubin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sen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nov, 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et al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f th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DIW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68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9960" y="1606680"/>
            <a:ext cx="7804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TR Website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isting Tool ‘Proto-Ontology’ (i.e. keywor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d Expanded Tool 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hat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1760" y="4933800"/>
            <a:ext cx="83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Times New Roman"/>
              </a:rPr>
              <a:t>See also: Kennedy &amp; Haselgrove, The Internet Analysis Tools Registry: A Public Resource for Image Analysis, Neuroinformatics, In Press, 2006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9200" y="125748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005480" y="5745240"/>
            <a:ext cx="1115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e Preprint a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na-mic.org/Wiki/index.php/SDIWG:NCBC_Software_Classification#IAT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80520" y="0"/>
            <a:ext cx="658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ATR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www.cma.mgh.harvard.edu/iat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200" y="93996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42960" y="1012680"/>
            <a:ext cx="6043680" cy="569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250920" y="311040"/>
            <a:ext cx="21924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AT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ol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896760"/>
            <a:ext cx="2166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63800" y="4680"/>
            <a:ext cx="7180200" cy="6853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05320" y="6400800"/>
            <a:ext cx="4572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6172200"/>
            <a:ext cx="4572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5029200"/>
            <a:ext cx="4572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405720" y="3429000"/>
            <a:ext cx="27867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eeping up to da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lication Li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R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latfo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lete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ATR Sche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34880" y="1136520"/>
            <a:ext cx="8215560" cy="5451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9200" y="92376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9200" y="16542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3760" y="41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ol Description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amewor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641760" y="0"/>
            <a:ext cx="5502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urrent System-Supplied Too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Keywor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6600" y="1052640"/>
            <a:ext cx="8371080" cy="50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la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s an atlas or supports atlas-ba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retation of im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tional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functional image analy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scopy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analysis of microscopy im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ration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image regist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analysi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surface-based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stical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statistical inference and analy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gmentation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segmentation analy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ualization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a signific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ualiz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ool that provides volumetric analy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rping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warping spatial transform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200" y="81288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9200" y="176544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4360" y="471240"/>
            <a:ext cx="77724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ol Function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eyword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121878" t="0" r="138412" b="0"/>
          <a:stretch/>
        </p:blipFill>
        <p:spPr>
          <a:xfrm>
            <a:off x="3895560" y="0"/>
            <a:ext cx="5248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82320"/>
            <a:ext cx="84582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wards a Software Tool Ont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9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 is_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Image instance_of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Image </a:t>
            </a: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created_fr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Image created_by </a:t>
            </a: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Software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99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SoftwareToo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has_a tool_cre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a tool_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a operating_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a funding_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200" y="125748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3:17:43Z</dcterms:created>
  <dc:creator>David Kennedy</dc:creator>
  <dc:description/>
  <dc:language>en-US</dc:language>
  <cp:lastModifiedBy>David Kennedy</cp:lastModifiedBy>
  <dcterms:modified xsi:type="dcterms:W3CDTF">2006-03-25T22:17:45Z</dcterms:modified>
  <cp:revision>133</cp:revision>
  <dc:subject/>
  <dc:title>No Slide Title</dc:title>
</cp:coreProperties>
</file>